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5DC-9043-4D07-84A9-3E83730F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FF6-B851-472C-88CA-D8E3BEC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BA0-E8EA-44BD-BF10-F551903F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4D9-7243-4839-918C-09EFE28A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33F-7E63-43E6-AFB1-0A453E69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3A5-B00D-49A6-88BC-72DEB38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1D3-3F50-42EC-A446-96CAC4C1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356-59A7-4394-8738-67AFE428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613-DA47-42DD-BA76-D5077C00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7FB-D960-4E7F-8152-4A7FB9D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BE8-3EB9-482B-9730-774B76F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B0D-E450-4BB4-B43E-E7FC36F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F5C-D337-4964-9DAA-45EEFD5AF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90792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6159600"/>
            <a:ext cx="4951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 viaje de Uli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as sire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z melod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 bel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468520" cy="3578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30290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Escila y Caribd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890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ises anima a los demás a seguir rem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4762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as vacas sagra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3683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do come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saltan esa 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500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Calip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70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frece a Ulises la in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tó que Ulises olvidara su vida anterior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51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Isla de los feac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296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to de sus aven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del rey Alcí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5121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Ita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353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o de Ul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eba de Pené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746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Troy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to de par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7516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Lucha contra los</a:t>
            </a:r>
            <a:r>
              <a:rPr b="0" lang="es-ES" sz="6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cic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s monstr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as pe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9864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Lotofa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 del 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y du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 de la cor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164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Cíclo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332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antes muy fe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ie es la clave para librarse d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051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Eó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683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os de los v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 de los v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88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estrig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035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antes antropófa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1720800"/>
            <a:ext cx="49690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maga Ci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35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onvierte en c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ises puede con su ma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5482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3394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so a los infi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vino Tires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1:41:07Z</dcterms:created>
  <dc:creator>CASA</dc:creator>
  <dc:description/>
  <dc:language>en-US</dc:language>
  <cp:lastModifiedBy>CASA</cp:lastModifiedBy>
  <dcterms:modified xsi:type="dcterms:W3CDTF">2010-11-01T12:22:57Z</dcterms:modified>
  <cp:revision>3</cp:revision>
  <dc:subject/>
  <dc:title>Diapositiva 1</dc:title>
</cp:coreProperties>
</file>